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E68B-387D-4207-80E2-C250AAD08D8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0AC-399E-4295-8C0E-3A9F11CC24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605C-5EBB-480F-BD16-C8AD51C9FDC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9B5B-F277-430D-82FF-BA72B3D3203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A7C3-0CB7-4C18-AE72-8D12B1982C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9D68-4320-4D67-A0F2-6E9172998C3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5E31-1544-43EA-B59C-1F0BD48D95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5002-94D4-4AB2-9C61-789D0326E95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DB0C-7C06-4AB0-938D-2D506477E3E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8B0B-B43C-40E8-B2D7-455FFD64F95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7723-3DB1-4E4F-A88F-E7E281DA1A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89FA-2E20-47DC-9C8A-B0253912AD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7CAA-43FB-4538-851C-395D6B7AA1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FF6D-0509-45D3-88D5-8E326EDFEBB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A808-7AFB-444A-BBAB-21997585F6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ED18-C76D-4ABC-A33F-1A79CAAF49F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0F2-0107-49DC-B218-D77F4AE1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F75-6B8F-4B6B-A814-812BCE4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81A-E1D2-470D-93E4-14B9C1FD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BFD-03D7-4B5F-B32F-72C66E86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77A-D169-478F-98A5-D2B4750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C2C-9194-4F7E-A36D-5E91E9FC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B62-5A26-4AA5-8BCA-5BACF787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ED2-558F-4E49-A4C0-831179B7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9BC-BFBC-4CB5-B8C9-8FFB01C9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F53-9500-4B99-BEB3-E8A4DFE8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100-D176-48AB-8E15-EA9D16B6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D0B-E574-4DAE-8766-98EBBC71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0595-D1B1-4966-83EF-FBEE0CBD4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bs.org/wgbh/misunderstoodminds/intro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Accommodating Assignments</a:t>
            </a:r>
            <a:br>
              <a:rPr sz="6000"/>
            </a:br>
            <a:br>
              <a:rPr sz="1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ing Instruction to Mee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s of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74820000[1]"/>
          <p:cNvPicPr/>
          <p:nvPr/>
        </p:nvPicPr>
        <p:blipFill>
          <a:blip r:embed="rId1"/>
          <a:stretch/>
        </p:blipFill>
        <p:spPr>
          <a:xfrm>
            <a:off x="3429000" y="3809880"/>
            <a:ext cx="2263680" cy="24386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provide clear, concise written &amp; verbal dir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xamples with the directions when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learner how to do the work with the example, even if you already tau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are more than one set of directions on a worksheet page, be sure to </a:t>
            </a: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highligh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s in some way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d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ali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under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ject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701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eet Exampl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y content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Pj04227930000[1]"/>
          <p:cNvPicPr/>
          <p:nvPr/>
        </p:nvPicPr>
        <p:blipFill>
          <a:blip r:embed="rId1"/>
          <a:stretch/>
        </p:blipFill>
        <p:spPr>
          <a:xfrm>
            <a:off x="2743200" y="2057400"/>
            <a:ext cx="3809880" cy="3809880"/>
          </a:xfrm>
          <a:prstGeom prst="rect">
            <a:avLst/>
          </a:prstGeom>
          <a:ln w="442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te T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note taking/pac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opy of student or teacher notes to be give automatically to those who nee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partially completed outline of notes or brief fill in the blank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hart or graphic organizer to be filled in during the note-t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interactive note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tudents time to correct notes, talk about notes, and reflect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s, write 3 key ideas from not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Cj04134600000[1]"/>
          <p:cNvPicPr/>
          <p:nvPr/>
        </p:nvPicPr>
        <p:blipFill>
          <a:blip r:embed="rId1"/>
          <a:stretch/>
        </p:blipFill>
        <p:spPr>
          <a:xfrm>
            <a:off x="7238880" y="609480"/>
            <a:ext cx="1724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tudy Guides &amp; T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Assessment sections of your brochure (parts 3&amp;4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question on the back panel:  “What different ways do you or will you accommodate assessments, study guides, and assessment formats in your class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acket, read through the sample study guides and tests.  Discuss which are well-adapted and what needs to b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w 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signed scenario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e how you might accommodate the student based on today’s s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 a 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hare how you might accommodate the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ge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prepared to share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icip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j00786240000[1]"/>
          <p:cNvPicPr/>
          <p:nvPr/>
        </p:nvPicPr>
        <p:blipFill>
          <a:blip r:embed="rId1"/>
          <a:stretch/>
        </p:blipFill>
        <p:spPr>
          <a:xfrm>
            <a:off x="6858000" y="4724280"/>
            <a:ext cx="1881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 co-taught lesson with co-teacher using the planning form.  After implementing the lesson, write a reflective journal entry about the lesson. (focus on including differentiation strateg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 sub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Reflective journal entry (minimum of one page typed- AND completed, co-teaching form in week 8 of W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arm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Read the let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a student (or students) you have ha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ast or currently have that came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d as you read the let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Turn to a partner and sh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ccommodations do you currently make for the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s to improve their learning in your content are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flamingos"/>
          <p:cNvPicPr/>
          <p:nvPr/>
        </p:nvPicPr>
        <p:blipFill>
          <a:blip r:embed="rId1"/>
          <a:stretch/>
        </p:blipFill>
        <p:spPr>
          <a:xfrm>
            <a:off x="6172200" y="457200"/>
            <a:ext cx="26956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295280"/>
            <a:ext cx="845820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ill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Understand how the student with special needs lear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Experience practical application of accommodations tha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en learning expec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Validate and add to your current tool box of accommod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pport students wit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ing learning styles i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and assessm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Apply accommodation strateg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 classroom scena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enguins"/>
          <p:cNvPicPr/>
          <p:nvPr/>
        </p:nvPicPr>
        <p:blipFill>
          <a:blip r:embed="rId1"/>
          <a:stretch/>
        </p:blipFill>
        <p:spPr>
          <a:xfrm>
            <a:off x="5257800" y="3809880"/>
            <a:ext cx="367668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commodation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3520" y="1521000"/>
            <a:ext cx="822960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intended to reduce or mediate the effects of the student’s disability; they are not intended to reduce the learning expectation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ccommodations must occur during instruction, as well as assessment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   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om the Maryland Statewide Individualized Education Program (IEP) Process Guide, MSDE Special Education/Early Intervention Sevices, May 1,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33520" y="152100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wgbh/misunderstoodminds/intro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bunny"/>
          <p:cNvPicPr/>
          <p:nvPr/>
        </p:nvPicPr>
        <p:blipFill>
          <a:blip r:embed="rId2"/>
          <a:stretch/>
        </p:blipFill>
        <p:spPr>
          <a:xfrm>
            <a:off x="4495680" y="685800"/>
            <a:ext cx="3324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ces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33520" y="1521000"/>
            <a:ext cx="8229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s gu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way to promote independence in any stud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has difficulty with attention or multiple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the sample process guide f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students with speci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s students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ish"/>
          <p:cNvPicPr/>
          <p:nvPr/>
        </p:nvPicPr>
        <p:blipFill>
          <a:blip r:embed="rId1"/>
          <a:stretch/>
        </p:blipFill>
        <p:spPr>
          <a:xfrm>
            <a:off x="5029200" y="2590920"/>
            <a:ext cx="318456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ing Across the Curriculu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ch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lephants"/>
          <p:cNvPicPr/>
          <p:nvPr/>
        </p:nvPicPr>
        <p:blipFill>
          <a:blip r:embed="rId1"/>
          <a:stretch/>
        </p:blipFill>
        <p:spPr>
          <a:xfrm>
            <a:off x="2895480" y="1981080"/>
            <a:ext cx="32004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kshee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can I adapt them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eeds of my lear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ject 3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5627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Layou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e ample white sp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y Worksheets = Confused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question per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items per concept to a minimum.  Shortening the items expected can benefit your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worksheets into sections using text boxes or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ject 4" descr=""/>
          <p:cNvPicPr/>
          <p:nvPr/>
        </p:nvPicPr>
        <p:blipFill>
          <a:blip r:embed="rId1"/>
          <a:stretch/>
        </p:blipFill>
        <p:spPr>
          <a:xfrm>
            <a:off x="4721400" y="1523880"/>
            <a:ext cx="37749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3:12:47Z</dcterms:created>
  <dc:creator>fcps</dc:creator>
  <dc:description/>
  <dc:language>en-US</dc:language>
  <cp:lastModifiedBy>Journell-Hoch,Cindy D</cp:lastModifiedBy>
  <cp:lastPrinted>2012-04-24T15:32:01Z</cp:lastPrinted>
  <dcterms:modified xsi:type="dcterms:W3CDTF">2012-04-24T18:33:39Z</dcterms:modified>
  <cp:revision>15</cp:revision>
  <dc:subject/>
  <dc:title>Slide 1</dc:title>
</cp:coreProperties>
</file>